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73D3-7319-4718-8824-1D2EE8404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12AA-6975-4C07-ADD7-253AD336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CD65-DD53-455B-86D7-7AED2B2BE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C43B-C5AD-48DB-8F12-02B91419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6DE1-F27C-4D05-87F6-F2109BE0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20B1-C750-450F-A91B-369AAADA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D539-9E7B-48BC-B495-EB6ED9ED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439C-5BB2-4CD8-888C-ADAD2324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1B0A-80FA-4759-9B7E-2458DAA4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FC68-B3F0-40F7-BABA-07F1C891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4678-4769-4C01-9484-33F0468D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B5DB-3FE6-49FD-8A13-06048D6D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21C4-7D50-47A1-A169-AE3675091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ing  Presi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aham  Lincol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aham was born in 1809-186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aham was the 16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presi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was shot by John Wilkes Bo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8120" y="5334120"/>
            <a:ext cx="6095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orge was born in 1732-1799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is called the Father of our Count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led the w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did not live in the White Ho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5105520"/>
            <a:ext cx="9144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21:16:38Z</dcterms:created>
  <dc:creator>Carolyn Spielmann</dc:creator>
  <dc:description/>
  <dc:language>en-US</dc:language>
  <cp:lastModifiedBy>Carolyn Spielmann</cp:lastModifiedBy>
  <dcterms:modified xsi:type="dcterms:W3CDTF">2010-02-02T16:41:05Z</dcterms:modified>
  <cp:revision>6</cp:revision>
  <dc:subject/>
  <dc:title>Comparing  Presidents</dc:title>
</cp:coreProperties>
</file>